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A48-61AD-4DEF-9F71-AC9B9288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1C8-B2E2-42CC-8C89-EA24EBC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AF8-FE30-4DD3-955C-752A0F10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BA7-2B54-4DB2-BBE3-B59E6A49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E1C9-F101-4BD3-8719-5D50D036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0E3A-58AC-4FE9-A9AF-6B183880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6D34-222D-4562-955F-59CEA1A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78E7-77A2-4E04-A715-DAD9042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E2D5-AD7B-4EA0-B17A-058597BA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3332-0CA4-43F8-AB11-04CE8A02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728B-4D05-4D76-8700-74C3B17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08C-9304-4401-AA7F-2C46E54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692-14D1-4C62-92C6-9F514B6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C619-F324-4489-8432-5BBE417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9E8-1166-4D1F-AB5D-D89721D8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FB1A-77C1-4584-A8F5-AC425F2C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9F22-1B45-4C03-9024-2CDCB2E9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6079-7270-40E4-A542-0FECA893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DAA1-6F94-4214-A1F8-C7861B65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A7E6-992B-47C3-81E5-D39B77C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8ED9-2271-4867-9697-4448249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3822-6429-493C-96AB-B799358F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1B9-4BC8-4A5F-8426-E7D7E388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A043-8208-47C8-8B52-7C92DC9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FEAD-09B9-4E55-95CA-C8FEDA7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45A2-99A5-40C5-A832-8B5EC7F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EA62-B66E-4DC5-882B-8614069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1202-3A8C-4C89-A8EA-7E063FF9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0C7A-EF63-4747-B1B3-992AC237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80E7-6806-456A-9C1E-F6F44356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88FC-B1B3-4AE0-8592-5E499A63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0462-108A-40A3-A168-A2512C4D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DB19-338B-44C2-AEA4-B0C98FF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35D-70B9-4EC6-BDFD-5F35100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9EEB-5705-4C5F-8666-BC50206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5B9B-8004-4FE9-9C58-3EB68BD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B4F4-F379-4396-B3D6-E87A5510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A34B-9068-4F70-85B4-5936B15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2010-1E50-4D91-AC12-6EAC9B0F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7D728-9601-4526-B2B9-F5CD0A8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15FF-630E-4204-A8E0-B1F893ED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F207-1115-4EC4-A696-B9EC11AE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DAFC5-CF98-4D5E-B8CB-A4E28CD2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B46E2-38D2-4463-BF6B-5CE59842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881-2B4D-40BD-9C47-5D73006E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904E7-4BC1-4915-BB45-BFBE74FD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A994-0C0E-40AB-8D12-D6C2FAF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217F-0268-4683-AB7A-4574C0BC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E77A-4CE6-41AA-B0A7-7AA93C2E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35C7F-10A1-428F-A0C6-E67A0CE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E7D8-856E-4F0A-BF82-923781E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3D86-B6FA-4829-8125-5E999A5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2A50-020C-4C13-BDAA-B8AAB887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4D5A-A1EE-47AA-A0F9-FFE4A06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9905-0F0F-49F5-B730-F1C1CAAE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2EB-1D21-4F68-BCDE-1C13C26F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3618-50BC-45C6-A850-5138BA19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CE4-2E32-472D-96D8-73C12AA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1FC-E120-4BCC-A5CC-173D6C3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FF7-BF12-4C62-B072-146B60B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6281-79A5-49B6-A9DD-B567E5535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25CD-021B-4941-8B5D-F6F3F154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00C8-5ECB-41A7-8D1E-5522CB7E1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9F19-FC53-45E3-A388-2C78F1AB3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207-27D3-4B82-8897-7B704D15D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office.microsoft.com/en-us/" TargetMode="External"/><Relationship Id="rId3" Type="http://schemas.openxmlformats.org/officeDocument/2006/relationships/hyperlink" Target="http://office.microsoft.com/en-us/" TargetMode="External"/><Relationship Id="rId4" Type="http://schemas.openxmlformats.org/officeDocument/2006/relationships/hyperlink" Target="http://office.microsoft.com/en-us/" TargetMode="External"/><Relationship Id="rId5" Type="http://schemas.openxmlformats.org/officeDocument/2006/relationships/hyperlink" Target="http://www.hgca.com/content.output/562/562/Food and Nutrition/Nutritional Information/Barley.mspx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09320" y="23623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f2936"/>
                </a:solidFill>
                <a:latin typeface="Times New Roman"/>
              </a:rPr>
              <a:t>The Language </a:t>
            </a:r>
            <a:br>
              <a:rPr sz="4800"/>
            </a:br>
            <a:r>
              <a:rPr b="1" lang="en-US" sz="4800" spc="-1" strike="noStrike">
                <a:solidFill>
                  <a:srgbClr val="9f2936"/>
                </a:solidFill>
                <a:latin typeface="Times New Roman"/>
              </a:rPr>
              <a:t>of Food</a:t>
            </a: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162920" y="3962520"/>
            <a:ext cx="3124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41b"/>
                </a:solidFill>
                <a:latin typeface="Times New Roman"/>
              </a:rPr>
              <a:t>Craciun Crina </a:t>
            </a:r>
            <a:endParaRPr b="0" lang="en-US" sz="1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Meat 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Most meat types in English have names of French origin. </a:t>
            </a:r>
            <a:br>
              <a:rPr sz="2800"/>
            </a:b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You’ll find the explanation in the text box on page 64</a:t>
            </a:r>
            <a:br>
              <a:rPr sz="2400"/>
            </a:b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3391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Meat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Beef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Veal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Mutton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Pork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Venison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hicken 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Fish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3760" y="2209320"/>
            <a:ext cx="33908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The anima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ow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alf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Sheep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Pig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Deer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Dairy products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These are products obtained from milk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Butter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Cheese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Yougurt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Cream</a:t>
            </a: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..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And now some 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Drinks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Non alcoholic drinks 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offee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Tea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Juice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Syrup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Alcoholic drinks 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Wine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Beer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Next time we’ll see 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How to express quantities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when we talk about food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(countable and uncountable nous)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Bibliography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office.microsoft.com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4"/>
              </a:rPr>
              <a:t>/en-us/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www.animationfactory.com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5"/>
              </a:rPr>
              <a:t>http://www.hgca.com/content.output/562/562/Food%20and%20Nutrition/Nutritional%20Information/Barley.mspx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b9f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b9f25"/>
                </a:solidFill>
                <a:uFillTx/>
                <a:latin typeface="Times New Roman"/>
              </a:rPr>
              <a:t>b2b.in.88db.com/.../ 1206-cattle-feed-exporter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http://home.howstuffworks.com/corn3.htm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Words used to speak about food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There are several categories of food, such as: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Vegetable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Fruit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Cereal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Meat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Dairy Products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Drinks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Processed / Cooked Food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(usually called </a:t>
            </a:r>
            <a:r>
              <a:rPr b="1" i="1" lang="en-US" sz="2400" spc="-1" strike="noStrike">
                <a:solidFill>
                  <a:srgbClr val="50141b"/>
                </a:solidFill>
                <a:latin typeface="Times New Roman"/>
              </a:rPr>
              <a:t>dishes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- in the next pp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itle 1"/>
          <p:cNvGrpSpPr/>
          <p:nvPr/>
        </p:nvGrpSpPr>
        <p:grpSpPr>
          <a:xfrm>
            <a:off x="2057400" y="380880"/>
            <a:ext cx="6632640" cy="838440"/>
            <a:chOff x="2057400" y="380880"/>
            <a:chExt cx="6632640" cy="838440"/>
          </a:xfrm>
        </p:grpSpPr>
        <p:pic>
          <p:nvPicPr>
            <p:cNvPr id="210" name="Title 1" descr=""/>
            <p:cNvPicPr/>
            <p:nvPr/>
          </p:nvPicPr>
          <p:blipFill>
            <a:blip r:embed="rId2"/>
            <a:stretch/>
          </p:blipFill>
          <p:spPr>
            <a:xfrm>
              <a:off x="2057400" y="380880"/>
              <a:ext cx="66326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33720" y="423000"/>
              <a:ext cx="647676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7ec234"/>
                  </a:solidFill>
                  <a:latin typeface="Century Gothic"/>
                </a:rPr>
                <a:t>Veggies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Subtitle 2"/>
          <p:cNvGrpSpPr/>
          <p:nvPr/>
        </p:nvGrpSpPr>
        <p:grpSpPr>
          <a:xfrm>
            <a:off x="1676520" y="1600200"/>
            <a:ext cx="7467120" cy="5028480"/>
            <a:chOff x="1676520" y="1600200"/>
            <a:chExt cx="7467120" cy="5028480"/>
          </a:xfrm>
        </p:grpSpPr>
        <p:pic>
          <p:nvPicPr>
            <p:cNvPr id="213" name="Subtitle 2" descr=""/>
            <p:cNvPicPr/>
            <p:nvPr/>
          </p:nvPicPr>
          <p:blipFill>
            <a:blip r:embed="rId3"/>
            <a:stretch/>
          </p:blipFill>
          <p:spPr>
            <a:xfrm>
              <a:off x="1676520" y="1600200"/>
              <a:ext cx="7467120" cy="50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66520" y="1801080"/>
              <a:ext cx="7283880" cy="46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otato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Gi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On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hallo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arsle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i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ele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Lettu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ushroo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ourget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Radis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Fe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Aspara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epp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Beet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895480" y="2438280"/>
            <a:ext cx="7146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Name some more veggies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Fruits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91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Apricot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Pear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Plum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Watermelon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Melon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Fig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Date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Blueb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Raspb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95600" y="1143000"/>
            <a:ext cx="3390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Strawb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Peache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Ch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Sour ch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Nectarine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Lim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Grapefruit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Grap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Do you know any other fruits?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Cereals 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Cereals are very important in everyday meals</a:t>
            </a:r>
            <a:br>
              <a:rPr sz="4000"/>
            </a:b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Here are some common cereals: 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87488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Wheat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Maize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Barley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orn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Rice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67464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8766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0:17:12Z</dcterms:created>
  <dc:creator> craciun</dc:creator>
  <dc:description/>
  <cp:keywords/>
  <dc:language>en-US</dc:language>
  <cp:lastModifiedBy> craciun</cp:lastModifiedBy>
  <dcterms:modified xsi:type="dcterms:W3CDTF">2011-01-15T01:23:18Z</dcterms:modified>
  <cp:revision>3</cp:revision>
  <dc:subject/>
  <dc:title>The Language of Food </dc:title>
</cp:coreProperties>
</file>